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34.xml" ContentType="application/vnd.openxmlformats-officedocument.theme+xml"/>
  <Override PartName="/ppt/theme/theme46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46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6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</p:sldMasterIdLst>
  <p:sldIdLst>
    <p:sldId id="256" r:id="rId51"/>
    <p:sldId id="257" r:id="rId52"/>
    <p:sldId id="258" r:id="rId53"/>
    <p:sldId id="259" r:id="rId54"/>
    <p:sldId id="260" r:id="rId55"/>
    <p:sldId id="261" r:id="rId56"/>
    <p:sldId id="262" r:id="rId57"/>
    <p:sldId id="263" r:id="rId58"/>
    <p:sldId id="264" r:id="rId59"/>
    <p:sldId id="265" r:id="rId60"/>
    <p:sldId id="266" r:id="rId61"/>
    <p:sldId id="267" r:id="rId62"/>
    <p:sldId id="268" r:id="rId63"/>
    <p:sldId id="269" r:id="rId64"/>
    <p:sldId id="270" r:id="rId65"/>
    <p:sldId id="271" r:id="rId6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" Target="slides/slide1.xml"/><Relationship Id="rId52" Type="http://schemas.openxmlformats.org/officeDocument/2006/relationships/slide" Target="slides/slide2.xml"/><Relationship Id="rId53" Type="http://schemas.openxmlformats.org/officeDocument/2006/relationships/slide" Target="slides/slide3.xml"/><Relationship Id="rId54" Type="http://schemas.openxmlformats.org/officeDocument/2006/relationships/slide" Target="slides/slide4.xml"/><Relationship Id="rId55" Type="http://schemas.openxmlformats.org/officeDocument/2006/relationships/slide" Target="slides/slide5.xml"/><Relationship Id="rId56" Type="http://schemas.openxmlformats.org/officeDocument/2006/relationships/slide" Target="slides/slide6.xml"/><Relationship Id="rId57" Type="http://schemas.openxmlformats.org/officeDocument/2006/relationships/slide" Target="slides/slide7.xml"/><Relationship Id="rId58" Type="http://schemas.openxmlformats.org/officeDocument/2006/relationships/slide" Target="slides/slide8.xml"/><Relationship Id="rId59" Type="http://schemas.openxmlformats.org/officeDocument/2006/relationships/slide" Target="slides/slide9.xml"/><Relationship Id="rId60" Type="http://schemas.openxmlformats.org/officeDocument/2006/relationships/slide" Target="slides/slide10.xml"/><Relationship Id="rId61" Type="http://schemas.openxmlformats.org/officeDocument/2006/relationships/slide" Target="slides/slide11.xml"/><Relationship Id="rId62" Type="http://schemas.openxmlformats.org/officeDocument/2006/relationships/slide" Target="slides/slide12.xml"/><Relationship Id="rId63" Type="http://schemas.openxmlformats.org/officeDocument/2006/relationships/slide" Target="slides/slide13.xml"/><Relationship Id="rId64" Type="http://schemas.openxmlformats.org/officeDocument/2006/relationships/slide" Target="slides/slide14.xml"/><Relationship Id="rId65" Type="http://schemas.openxmlformats.org/officeDocument/2006/relationships/slide" Target="slides/slide15.xml"/><Relationship Id="rId66" Type="http://schemas.openxmlformats.org/officeDocument/2006/relationships/slide" Target="slides/slide16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B1CD-773C-421B-9626-895DC224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05F8E-0EB1-48B6-9BE8-EC4D0F48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ABD4C2-A19D-40EF-8840-E3F01A3C2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12235-85C6-482F-8261-460D37B3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7B88A-7C66-4052-B888-A67365795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02446-36CD-4397-90EB-C2BFA2B9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0FAA6-F3C4-4F4B-8A4A-F32D1DC8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D662E5-D7E1-4058-A55F-C3CFDC1B7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DC17A-B960-4853-9BB1-052DBE6A9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8CCFC-B2A5-4AD9-AA0E-D40FAC6AF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44EAC7-22A4-44E5-900F-1E6B9D392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25782D-3129-43FA-A8E2-C49D951FA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288-9C19-4D2F-BDA6-1C6C4E6AF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94F05-F4C5-4F82-8488-79BEC205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17831-AEFD-4F24-9655-F877A610F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1919C2-9D8A-49BE-8BDA-96639833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872325-7B3B-4216-8201-0782A3EF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95352-9864-4534-BBB4-2816D22E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6FA6EE-AB3C-4E10-90EA-FD7B933D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AC11C-75C0-4B5A-AA50-2064772F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04C105-7AF0-4B23-9836-D86E70225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9DCAAF-DB15-4845-80FD-34ED5C61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B510F5-D9EF-435E-A48A-C5C370A77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D031-3AFB-4946-BB2A-EC461FBB6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09B6E0-AFE5-49B1-96AC-E34D41E0E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120265-308C-4BD3-86B7-C494005C7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DD78F5-233B-4F1A-9E25-F59341A1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B8FE91-53ED-4994-B49D-69F06A9C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4F46F-6815-4DFD-96B3-F863D875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346E22-D2C7-46B5-B247-30CD3B4C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01E22-7DA2-4D56-A54C-593FC9DE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0845C2-3DF0-4D27-BCAB-46D2E956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228E2-A315-436C-B28A-638E0D0C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75706F-989B-454A-8F49-BF5191BFC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BADC8-7DE1-43E3-BCCF-206B552D7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71EEB8-5383-43AC-BBBA-16E98FF45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8D65A3-036B-42F5-BB56-BE6772912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43192-D7C1-4818-B9A3-0F7BBDD97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FD788-C91E-4FC9-B603-B259C769E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35A46C-8CE2-40CA-8EC1-5E4EF3A0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E411FF-EB92-4F62-BE05-1BD860C09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6E52CD-5C04-4B2A-B8A9-1BB25C98E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0294D6-7B74-43EE-9C93-016355BC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8F387C-6F26-463C-8B74-A925241C8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87E653-97C0-401B-8826-519FC2C2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DEF00-FBA1-4E0B-9796-69274F164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5FC80A-8C62-4532-9D92-B7C3F0E8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C47DA4-CC1C-47B4-A9AB-EDF152E40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272E5E-099B-4CE4-9DD6-32C7EDA6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8B680B-691A-4C01-A020-5E33B8928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F39395-9F05-4216-A2C4-49248C1E7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EBD87-DF23-4B84-89ED-1E5B69ED8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25DA27-5512-4C2A-B207-DE5E739B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3B1535-7A8B-48CB-8146-2DE918254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B8F3E-9BAA-4D0E-8C43-77E406336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CD6ECA-69C7-4F25-82F3-D0B58DCC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1F9BA-F1BB-41EA-9B27-28E8E7BF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4287A-09BB-493C-BDE8-09F8A19F2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AF36C-1D72-492F-883D-4265E3EE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3DD799-D478-4025-AACA-94877C4E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F0478E-0FC7-42BF-9EE0-F41E5789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FFD495-2FFD-4D59-9F04-DA829DFA3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59DB22-E3CD-4D99-822C-8871EF194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851158-B84D-4F29-A61C-0620042B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7C0031-7A9F-46DB-8C2D-2208A2F44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3C08FC-B944-42AA-955E-66A8A250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D80098-8C1B-4B41-8D64-86791174D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EEF09-E70A-4B8A-8EEF-BFDB4355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205D0B-A742-4A6B-8664-2D73E43E6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2A252E-347C-4312-B8B2-8BF2C615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FD48F2-7B28-4FCF-913E-78C29945C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339101-391F-4EBD-A64F-7984EBF35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6A792E-B9AE-45C3-9A05-996F0DC3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2579C0-E067-42C5-894C-DB060731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A44288-AEF0-4D5D-8A86-EC9C31A42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8E2EBC-033F-4B03-8B33-14BD79305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9A48DBD-0FD9-4FDD-B04D-4DD701D5B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C7E575-D355-4194-B900-11067EF27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0EF7A-217D-4DF1-989D-A3E8300E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22A6D7-618C-459D-92BC-D3F187C3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5A1CF3-1017-413D-8541-0B8CA267F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D3FA01-FB9B-4AAC-88EE-DB14E678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93D9A3-6FCF-40DF-9ECF-06CB0954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E5B642-0923-40E3-9D58-688EECBD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CEA236-B6BA-4065-B743-F112BB65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57C9F1-2FDB-4BBA-9827-23D73883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879290-7345-4E27-97A2-CE3D7E8CC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C892A-7ABE-4E58-BC34-224443BE0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32DD59-DC44-43C2-A586-D4D9C289C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6695-3DBD-45D1-8F5D-2C85A5E6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E14FA3-7369-45DA-8817-50EA1C4B6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00318A-8D82-4252-B70D-65A74EC7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0F114F-2BA0-442B-AE00-3849D7F15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315C5B-89E5-40EB-A6BC-58643B12C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395193-8A1E-46AA-B091-CE2791C0F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3300A3-3187-4215-AB15-E9B18211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F28B45-D3C8-4012-BD18-46DB9A12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D0DD17-58A5-4FC3-AFCC-11E5B25E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76E544-BE1F-497C-9910-A6A9FD113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1ADC4C-9ED3-4C15-8026-09BD5D380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0C80F-526C-4579-B4C8-52669ABA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2B5394-D866-4D19-922D-E6FFDFC5E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59F6DD-5500-450E-AC21-F4BC3D61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B0EC49-F668-429F-9C81-81FC39EEF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4D215D-6F25-4DA5-BFEF-9670B67BC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192D81-C907-445F-9121-041FBEC95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CA1C4D-49E8-4AC0-89F2-C761B98B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103A05-06B4-4F8B-A16F-AE633BF8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9DFBF-EE59-4F6C-8E6F-75EA78BF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C122AB6-E9FF-4E51-98B0-FC4E914E1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BE4A02-17DD-48AF-B233-9749FEC4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6B1A-5227-43D0-8C3C-8E401FCF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E16A4-C837-41AC-9F61-11E7E589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7C9643-CE42-41F0-A979-36259B14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E41DC0-A540-4026-8D87-F9CC2423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5B8346-0891-45E1-B6A4-F473362A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DC57A7-F1EF-48BA-84BC-2A14883ED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3833315-60F6-499C-972C-75E811F1A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456514-B85F-4BEE-977C-CC1486398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B859B6-93D0-40C8-9C00-8D90C795E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D77DA8-0EA0-4446-B3D9-E9673ED7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C3E0F2-9A97-41F2-8178-3CC3081B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556E84-E8E6-4E07-9369-4263868A7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B6FE1-8C65-4155-A875-73118C55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89B9463-A030-41A7-A7FA-90B60BC5F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87510A-3CB9-44F0-B324-F4535937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F42E67-C838-44D6-B8D0-0CB2D4B3D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B768F3-BBCB-41D4-99FD-67CB689E5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7DDC13-8244-4E50-9299-7A795BAE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98FA6D-E2B7-4663-86C0-F9D1F511D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259C1-7332-401C-AE68-D3A9F4748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F4912B-46EA-4356-AE9F-BFF9F752C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0234FF-08E0-4F51-8AC0-2D0C807C9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771546-C20A-4072-AEEE-137BDC1C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3E5F-CCB6-4930-9D52-63C3839C0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06440A-B421-430B-8B16-938221B8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413DA0-B13F-426C-96DD-69C1DAE7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1B0D94-6627-482B-9794-8DB65138C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3A6690-C5EC-4652-A78B-4603E956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AB8FE7-F47B-4B48-B9D3-BE1197D2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40D7AC-E64B-4909-A68B-1DD5949BE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DA2AFF-48FD-4048-AE86-B350C8E95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1F8B80-6D17-4F3A-90F4-E0279B32F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380EE2-B8F7-434C-A541-E42DB680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73D287-00E9-4391-9305-A8DDE12FC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2AB2-479F-43A4-AA45-0AF4DE0FE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6D8401-54E5-4D5D-A68C-A6334D84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C0AB37-D201-4A6C-8DE7-7575C5E0A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9B0634-B340-4566-85AF-F7295C2CD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4D962D-72DE-48B7-8552-47B625CF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713951-50E7-429C-B086-9789B7CE0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FF97A8-1CD6-4BD3-8352-585D31C6B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6A6022-E56F-49EF-91F6-331C89C1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F659EFD-7067-4E47-9CCB-8607CCD44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EBF9A3-DBE4-4528-B4BD-8448213E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3F4E04-D2F9-4F72-A4DC-1D992A846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79527-08B1-4F56-88AF-83854B725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551A52-05F7-4F35-A683-B09736403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BA6343-BFA2-4619-8CC6-80BA973C1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B0B182-3B1E-47AA-B9C5-89FF8986F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BAFDFC-720F-4727-ACFE-04719A72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6A96A5-A8C4-4C05-9006-3FFEFF35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5E8EAA-A02D-43B3-A90B-8279C9EF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B3F33C-7FA6-47D8-85F3-2055D97A8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C305AA-641E-412A-83D7-6B7FEF3A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4B2563-EC1F-42B9-93A1-3D39649B4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5A703E-607F-4890-9B80-4BD3BB78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01E3D-9144-4A20-A827-6D9831C9E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00ED0C-F45A-456F-A341-C49FBBCA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B826E0-F2BB-4C44-BCD8-132A28469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DCBF67-7D43-47B4-BFF3-1E2C496B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2457B1-1819-4662-9E3D-0723CC9C1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2F55FC-A460-47D3-ACAB-E8CADA37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AF44295-E050-4C68-92D2-A5537871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16D95C-0041-4BC2-9664-8057EE35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9A91509-3987-49DA-A021-6B0916F0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60D622-A85B-4375-9478-B27041517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3FA796A-8E8A-409E-AD3C-021DC74B0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42559-0929-4D1A-9950-D1E0BFC04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35A852-8291-4E45-BB1B-4B9477A9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1FCB8C4-8C93-4526-947C-32A801DA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A3538F-7F81-4B6C-9E93-3F12A2411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9F5285-D103-4E8F-BFBC-435DDC9D7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E61AF86-0C17-4DA3-BAED-A4119D7AE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81179E-77EE-409B-8D9D-2E17636FF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C35097-C137-4E86-BCAE-E2E47EAA8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E1094D-9301-496B-BF34-A221C419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B737335-3148-4A83-8F0A-075D8926E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49CD77-2ED0-4136-B8FF-BB6ECA913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23DF6-3363-4DB3-98DF-00BC82C26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4AADF6-D68F-4FD1-96D3-4D4913D1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AC9CFD-BBD3-48F3-B8F5-6FBF4072C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05A0570-E300-492A-B2C3-3D361B20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5174398-DC86-4723-8667-D1F8E3C6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3B98C2-6BCC-4E6D-BDFE-EE5F75171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DFF9F7-D4F5-4232-A0DB-1BFE09A99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857DD5-4A76-47C5-A810-5DF1DC0D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DCE227-44B6-4C53-A202-71386630B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E783EE-E5FC-479A-B177-B64514E70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B8E0250-E5BC-4FC1-B79F-6252050C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9965F-3B0A-4AB0-95ED-B5B1A370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51C616-4CF1-448D-9524-9EB53C9AD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5764E1-C732-47E1-BAAA-6F58973F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CA73C4-8CF5-49BA-ABE0-73B23006C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4D8D282-DBA1-49D2-BB34-B7658746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3BA6E36-852D-4FF0-BBA6-A57914036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89FAAB-40D1-4372-8EC8-BA8F21A1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5BA9A4-AA76-4A26-9C85-AE0729477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332200-3D2E-4EA9-A9E2-492EA72C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C948A9-40E0-420F-A11E-1ABD5F354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9C6073-8815-468E-8097-B8382BF1A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A6E31-0422-47CE-831C-38E223D6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FCF26B-58DD-4009-ADE8-CBB7CFFE0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A39B4C3-3B92-4415-B19E-EFA730C4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8A86B14-11FB-4B1C-A3B8-08794585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07225EA-1A18-4300-8C92-9549DD29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2668824-874E-4191-83EE-E9F27DF9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7032F9-6759-4C4B-95DF-2EE4ED4E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9028EC-8026-4AEE-8A37-EBB73016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176A64-B939-4C89-ABAA-E80A79BA6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BFE2C12-1C0B-4D36-9147-195A0499C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0515E0-C58D-448D-A630-C7E0AC62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59D3-3D12-46D2-8105-3D5E7B6E8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1E39D-F20A-4611-9383-C0453F19C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6F40FB-271C-4DAD-9B26-A06FFAA0F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FC572E9-5C1B-4D21-9ECF-E3457849C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B5C764-BCB0-48B0-B8ED-2F76FBBFD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D9C456D-9912-40C7-B303-A7BF1CDBA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2C63B86-B497-4D0B-ABA7-9C2ED6142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E894F29-B1DB-45E1-964B-47CB02C07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E7EE8E-99CD-4276-BF0F-9243DECD4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649689A-0D6F-4F25-A901-C9D04EC76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84502D-21DF-46CC-A096-5B152A682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90CC31-5E6A-444B-BEB3-5282F899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05ABF-E4DF-4883-8666-33A34097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CB08613-CEB5-49C7-8DA2-7BD8BCB55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E10BAAE-9037-489E-A2A3-843CDDC90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0E24CC-CAAC-44BC-9304-4FDD3E8E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5239B6-42E9-4D6F-AC0F-BE3E1770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DE2ED6-390E-4771-B47D-398028E70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2F19C9A-E019-49C4-8DAF-A42BE1288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8D0C3F-1992-4781-9F98-6FBB5D3A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A51ADE2-08B7-481A-8427-6314427A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594EE8D-2E36-4D3F-8A15-299C99D9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DFF40DB-749E-4738-9B53-00DAB7A66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4490-78EE-40B9-A437-5E68526E5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0A14E7A-FAE4-44DF-8DF5-369D37E73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74B4608-36D4-4AF6-9978-00F39E300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686EBB1-F0E1-4AD6-8679-95DA8028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53FD01-D5CD-4A10-82F3-809929A9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7CB393-1CD1-4A76-8FD3-33FAD2711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06F898F-0FB9-41BF-A6D6-1DC475404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BA3D0F-7D19-40F5-9941-AE673C3E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63B5D6-AA96-4BCA-93AD-D071A2B78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BAA90B-24E3-4996-A063-14BB3C9CB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E4D1777-D478-4895-9A8E-685B2335D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6C11A-2EC0-4969-957B-9651C0B1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40F4D6-8507-4816-8BF8-6BDE32482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233BFA4-8BEF-4BD4-86CC-680873B2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0060BBE-7FF8-4E06-8DAB-CFF094A4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57C85E5-7DA2-449A-BCD7-FE11ADB6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A6114D-2405-409A-8CDC-FD9CB179B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40F78B5-3F8B-4A74-ADDC-54232A7B0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B8D48CC-5897-4C38-B50A-407D4BDB4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556133-3D29-47AA-B55F-9C8155659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1C90ED-88DD-4F71-B1DD-E15044FC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E41E0F-8CD4-4C32-B571-E8CEE04A3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B0F59-95D5-415A-86D9-4E8FC29B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B53467B-AB75-4DAA-AE93-21397810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4C8CB3-0E41-44AE-B559-FF637881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66BD97-65E0-43DD-AF2B-4E9BE45AE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DB01D86-2755-43D7-A95F-7EE1CC735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048204-E7F3-4299-8110-897566E1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30BCE7-8131-40AE-B681-69C73D49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AB0E3C-5D97-4EFD-9E4F-D6A54CA9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CFABEA-0D44-4E5E-AABF-6854A3DE62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3576870-F04C-4A72-8AC9-E6C64BA6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CAAEB84-07FB-4814-A8DF-215D453A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D4705-1161-4905-9A89-D346D1615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9D8D99-D8D6-4E92-A337-76BCAECB7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18F094-FB9E-481D-8B1A-370E2A149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41452EF-E85E-4935-A2EC-FE23AC2D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BE7CD6D-DC62-4290-A783-90763A04A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A2B58C7-8E3A-44A5-A826-EF028124E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DE2613-46A1-48BB-8E6E-3623A2A9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72F261D-782E-4A06-AB99-E64C8F871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9E80B89-4132-4E7C-A529-1D31FC6BE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914873C-C213-4D37-BD26-EEBEA0282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2DD7CE-F196-4703-9303-A69642795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077866-08DE-4E74-A271-7C1F4E02F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EB33BC-F21C-42E6-8DF6-CD20FF72B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B88DEF-230B-4F14-B868-0BBDCC47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726767-6CB1-47D1-8A92-664A2397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B1E377B-1FD9-4B82-BFAD-C184F1753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9ED996-9D0D-45D6-A1C3-720D27BBD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EE3A82E-DD21-4120-8BE8-820F0EA12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D0BBEE-0C30-4779-BE90-C28D3F69C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9F498B-B6DC-4929-82A2-FA09732A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2F8460-61ED-4226-9748-1637F7246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4AB66C1-C6AB-47A7-AAE5-535C1A7D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50814-36F7-4A3B-B5DE-FADA2A852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8DE3C7-CC1C-4E24-86E0-E91BEECD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059A0DD-2E9C-4AB2-82AD-8498CC35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6E571CA-073F-4C13-9841-55CFB117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673AF2-A28B-4B31-8560-2C3C53BDC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0F0DFBE-89A8-498B-95D7-5A1850784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83715AE-A791-44A3-9D1D-844A27BB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44D3839-A300-4E8B-8F2C-E9C373C48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BF0D455-16EE-446C-BB5D-C68E439C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13E03DB-192B-4C35-B8B0-D3BA1EC5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A8D234-EAF0-4355-AAF5-2BE0DEC9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889D9-39EB-483F-BF6F-C39B5130B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00BBCF6-7C71-44BC-9382-61C8CB01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C0CCA6B-17A4-4BFD-9D2B-4D397491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0681E7B-BFDC-4C51-9A63-EEE295B46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01D3AC3-2756-4D73-8D61-61E7FC1F5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061243E-49F6-4B8A-8F61-CD965D18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86F2A00-0CF8-4C1A-AAE0-25D1A30A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ACC1CD9-B099-4E58-9E0A-8E75943E3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19055F9-2564-4711-94EE-1F00E3B35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4DCD253-49DC-481F-985A-6EA8A634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DEC14EE-705C-476E-A06E-F7B90694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87047-D0EC-4326-BC39-3003E7F6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15C42AC-6158-4926-B7A5-CEF0A17D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2247A05-A97B-4CEA-A14C-647F8FF1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6724DC-B771-4A37-9DE5-EBBAABCAC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01168D2-920C-4264-BE6A-0C232B7F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F5E8796-54E9-40F4-A7D6-AD6981E7E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A68DD24-54CE-4DEF-B5C1-9C08050F1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4F4370-1EA0-4C3D-A24E-1EC153169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94EC5ED-CF20-4969-8E23-6770547D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D7D6097-9FEF-4AFB-926E-3D2B3615D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931940-CEB8-466E-ADBD-7E4FB320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9193-946E-472E-B6A6-0A03E2CD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0FDD3-DECE-42B2-88BA-B827BCA6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18EE39-A8E6-4305-9A28-4BB701E9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93975C1-A634-493C-82C7-684F1C4D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43EEFFB-A2EB-45D7-BB97-7DC7302D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EA527E0-525C-4ECA-B219-8EBD98B1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113A12A-EBDF-4141-A8BC-F05DD8C9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F74D12A-3E24-49C4-BB00-2A279129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BAB320-B1A3-4D20-BF74-A8D34A4A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C927B0-7388-4A5E-A837-B4C870E3C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B09816-2460-4D87-B4F5-9B3A7B47A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255FF4-D2AB-402B-A64C-27E4B5E2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95985F-1744-4124-BE9C-0C186B0F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2F4DB94-0D39-4533-897B-0A111DAAB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5776BFB-F2BF-4ED6-BB20-0CDE21A53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3C713EC-AE49-4968-B560-18F51CF9C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2DB6B11-221B-4B3A-B1E8-CE5622C4B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ADEC499-A5BE-4C62-90DF-E8325BB01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52274E9-4535-4842-BEFB-134881C56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AD709D-9E65-4941-98A5-E3A5A2E4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B118DD3-C97F-40C7-9C5D-96F7A52A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55B8141-4528-4FD0-B83A-A0DBE291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AD464B0-0657-4C6E-A74D-795A5A6CA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3B128-254A-4B58-883A-BA76E132D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2758130-E576-420F-AC26-D5708AE30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1A1FD36-6F90-49F9-93DA-D296A7C86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18F541-8158-47E5-95E9-51A6AFE34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2A11FFC-5170-4AF5-9D83-CB41FEB5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439761-BCF5-4ED3-A4C4-9B4318CC1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8102751-A3C3-4CCD-99A8-6960020D1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0397C20-B867-4314-9335-A0FA0E2E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7F46483-8530-4827-8984-3F706B82F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C30EE4-96AE-4BA1-B2BA-4715ECD7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7D33BAE-E1DC-4EAB-97F3-DCECE081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CDD52D-1C6E-4977-8298-C31F553C1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198F3B-8F1B-4DA8-A703-C97B2CA6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41AD33B-31EA-4AB0-ABDE-1E524187F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77584CD-AF78-4AD8-833B-1FE2386A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6771B5F-61B9-4A5A-932D-CCFA57A0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C734442-427B-494F-8D07-1F0519978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BA270D5-2AC8-46C2-BEDB-94B250EA4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88B83C1-DCE0-474A-BAAF-38458305D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90ABBB9-EF03-4485-8CE7-CD2217F0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F707449-F99B-4177-988C-ED096D6C8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FEE16CD-B639-460D-8991-A6F426D6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6FD2E-673E-4ED0-96A8-AA621550D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F8305D7-71E8-4AFE-AA01-1C1C6F38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89316F-5FF3-46F1-8E61-C98064E28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2E1442-4D57-49E4-A14D-CBA35E6A4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EDBAB5E-0F21-4875-B2BD-15CDABA94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CC024E-AC44-40BB-9622-019E563AB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6AD5DE5-E3F6-48F0-9EE6-8257A818A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A1CDDAD-899A-4DC0-9DBA-6DE23EC70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08B42E8-E724-4DA5-A807-66EDF3193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08FD7ED-02CC-4582-A363-7F3B9C3B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69A0A2-85F0-4922-BF81-99916C7F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497B94-8618-4BD2-9ADC-C233DF23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B3C3CFF-EBB5-44AC-85FD-FE01F7E5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89E6DE-6228-4441-BD44-D8BA439C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F898273-7827-4306-B4FC-A0385056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8895979-6899-4574-9CB7-5FA1A1542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C11CF8B-FA79-421A-8551-723B07D1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91679C-0402-47D0-95E5-C47FEE0D9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3FD56CA-973B-4BBF-8A73-6BB799A3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78873B9-5780-4968-BC73-6683DF849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D278714-E114-4551-88C7-3D386F68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4AF55E4-6DEF-410D-9C10-FD5D4EB1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E7C6B-3A9A-4A4A-9929-F0C2DB99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AAF69C7-226C-4507-AD44-D4C2A46DA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4A2B37A-59C5-4101-8891-215627DB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14357C3-00ED-4FE1-AC3F-F5D8303B2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91904DB-BAF6-4783-BC8F-05E27347C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4EF3965-F4D0-4CAE-9EEA-EE6013395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37513CF-F09D-4304-8753-64AABA073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329A766-0E8D-4C6F-879D-D3A1E3838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112A35E3-4E0F-4A7E-B8C8-06884385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146A648-B6AA-4ED3-AD92-F3D89608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0FF79CE-8C17-4A7C-AD73-C1173E43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14751-BC79-4280-BCFF-0D6F92A8B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8EB44A3-EFC9-4070-9AC9-8D6D3302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5A6B380-6A68-4AE9-97FB-CD46CD46F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64B2C54-970A-4900-BBD8-DF4600E51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BFADD1A-2116-4317-949C-0754A1EA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F3F40E6-83A9-42C3-BD04-81CF48D66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B570341-4200-4A71-B918-CE7E7FAC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A627556-BC9D-4834-AEE6-3F6C9CAC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2019B0B-41AE-495D-9EF4-08C7D1303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FC8719F-609C-4116-969D-95968532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7365B81-A024-4D3D-88F5-FE8F9A57B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94EB9-6014-4DD1-B7A2-A466D632B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D78D28-D384-4226-92A0-72996CEDC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10A89CD-60B1-4B19-B31A-704283A2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7636A58-15E9-431C-8CE9-42037C49F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DF0D6B6-F62B-4207-ADCA-5D31D864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9555637-3B0C-4CCE-9613-135F2DED5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6058E1A-C780-43A3-A773-189F6C4D5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CD1862D-DB02-4C5A-9E9E-4BA2C379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C81E18-541F-4612-8ECA-6027B406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5637DFF-3F47-4F7A-9367-38D0C8C5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182F854-A96F-47CC-A1B8-CC7CC74B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78F6C-6C43-4D82-9C32-952975565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5A1098-1B2B-4080-B2D6-8049422B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BDB1EC7-2EF3-4197-BC31-184509728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F8BB1DE-330A-4A48-8D93-48BD83475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7618ED4-1FA4-4F95-95F1-994203532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53F6E63-10A7-44F7-88F5-DC4A6BBF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09FC8A9A-A65A-4D0D-89F5-BDB54343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62CECCF-383E-45AB-9128-A82E77FD0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B6E1102-E98B-4057-9964-FBA67015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54BD4BB-F150-4313-9BE2-24A6F367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88B1326-42DB-4A8A-B52A-6BB95FDC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E7D-34BB-49D1-9147-30DC1303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B20A1-9A25-4EF3-A9EB-2A69A42EB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466BB58-93D9-40C6-9987-EA3A57D0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182184D-3869-49A6-972E-49945EE2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C6D05A1-A5CD-42AA-862A-17A7DDBC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81269CA-378E-4F27-BAFE-A3A8C1A3B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752F555-7943-49F4-934F-57D1C9581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0F9E90E-42B3-433F-8209-C300BC58C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5BA4DB9-DE46-4FFA-92AF-ECC2B464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E499ED9-5CFB-4497-961B-3445CCB06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8169876-DAE2-4769-9040-73304976F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240A7EB-6BAE-49C7-BCBC-543904F9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8AF8DD-EAD5-48F9-ABFF-0BD6CB91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EE5985A-16E9-469B-8C1A-03E997F4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F5D2FBA-FBA2-4DC1-A91B-19C009B3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9E1C5FB-54D9-44EE-982C-3EE27FF73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EC9B2D4-42CE-4534-811F-3D73A327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2F4CE9D-72E6-4611-8861-CDF0CF94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963871A-51D7-48AE-A71D-9C0035C4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2EECF7E-82F0-43BC-8E19-CB02F1C1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8D6B3D2-42DA-4F22-89D6-A3DB1CBA8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DDEBDEF-2AFE-44D9-ADBD-96FD3024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A1783D5-13D5-4D2C-AF34-06EC678FB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CC4DF-EECE-4C9E-A32D-FB4B99035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218ACDC-4A1B-4298-8AF0-ABEFB3D9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96D949F-5547-47C7-AAFD-F53341EB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713284C-3318-412F-891B-2B0FB875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D9873AB-D8A6-4C9C-B111-3AE38066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5131733-814A-44C4-B610-9918654C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F360970-BD02-44AC-B490-FDDD8C80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6D1E992-2171-435D-A32A-BC589744A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20BCE30-A9DF-49F3-93F1-6F3943E1E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6F9C396-10F4-4EFE-AC3D-D783D266B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8891E1D-853B-4B31-829E-680DD117C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D3272-3A1A-474E-8503-46455EFCF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B11E9D8-74EA-4E57-957A-67A4F730C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9B1FDC3-F67A-41B7-9130-CF0DFDBED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F30DE1F-1EAF-48A6-B8AA-CE3A75A5A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78E9D1C-3CD4-4CC6-931C-DE3D411A6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13C3BDC-0254-4D55-B85C-818F90AD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C501484-FC09-4DD9-98A1-4EE610C85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1C41B18-A8EE-4E77-946A-5191F2B2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E442CFD-C95C-4D57-9FDC-46F57F92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C2D996E-A45F-412F-97A1-F90D40BF4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F9BBE7C-88A9-4FE1-894D-7A59EBF5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3B1CB-7F39-441E-B970-F6D22897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9BA7C1F-7471-42B5-AAD3-98DE09C2F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0A8E228-FFD0-4B15-B8E2-1F6DDBEE1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EA050FD-0829-4858-9D95-BD0F92BC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A48E30B-C235-49F1-A148-165EF3A30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E9198EC4-64AE-4655-8293-2C5B0170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FFD8DC-1E55-4235-B56B-DFE4E9E98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6FFD370-159C-46D3-A76D-30198E4DC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9E90125-612E-43BA-A01A-729C38230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AA582E9-351E-4D9B-B313-99847F70F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6D9CC7C-4F46-403B-93CE-20AE335B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96A01-47B5-4F00-84A0-446A205D8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199E5ED-989A-4249-9860-56D80E8A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6157350-4D37-42B6-9C02-2913A4A29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0535954-A6F0-4BDE-912A-A518D96D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C33F476-0FA7-4953-A5DC-7AF713749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5A0E245B-BDC0-495F-8F8D-7A2C68F32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A70FFFA-8D48-4EEF-9D96-F611514D6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8A2CF92-4EB3-4CD3-B3D8-C629C7595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BA9B065-B1F7-46A1-A23B-D6302C296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D1448FFE-37AF-49C9-A581-3151ABA11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F068445-9DCF-45A6-BF9C-059A6514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6DEF1-F1A2-40C2-AD02-FDA88C439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BB3CC84-CA84-4F88-8A02-487454DC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809748F-DFCE-422B-B4D6-392E5531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0F6D840-4EE8-4E6B-B81D-266D70FF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F2303B5-6682-408A-A8AF-6F4DD9EA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1D5F341-E94F-4A2B-9B1F-CABB59E37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B5DB552-94EA-4D87-B8CA-EE1A71DB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E7D8483-1DD4-495B-BBD6-3EFA261D3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DCDA867-D858-4FAD-B84A-968278DEC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5635FA8-98AB-497F-B938-B1ADFD677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59CD400-CE47-489C-8598-A10E9714E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57166F-BD0B-4653-87D9-C9D9E9BC3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75F4639-2070-4FD1-8182-7F941D98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D2FEC3DB-34E8-4957-94C4-FD96FA595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08C091A-273E-4657-9FD5-4BDB6AC1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C0165E1-066C-4E23-960C-0968EB176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58B9FA8-F67F-461B-A080-1BDD59846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AB77C494-4AA4-45FF-B1C1-9B385E682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2C7E905-138B-4899-A393-B3273F47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986CF75-148C-48EA-A0DF-AD568EC09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8946E52-763D-4BB3-AA59-8F39B0CB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4A900BD-93D8-400B-BDFF-EAEC5F84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F616A-C720-4E40-BDBF-F42BC0A2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F8BB1F6-D376-4084-A785-1D3BD737A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30C1843-693E-45AF-AE41-6B087833C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5FF23BE-93FD-49F7-B877-9A8AA1FA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D573E84-D613-465E-A365-2C931C3D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933D326-A1CF-47BE-B50A-E23B5319E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AE1A18A-83C2-437C-9A62-349B173B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8A686402-D97F-4562-B7F7-225FBBD21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706A39F4-75BA-42C3-B3C5-21A3DB585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A73A6B0F-67DD-486B-92C0-2E1E62E8B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97F8FA-2E9F-4963-B68D-FE035F25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BE5B-C9B3-4184-BFEB-464ACD215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A8B83A-82E3-4953-81DE-27B852B6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B3C5B-D574-4EE4-8D95-E46272601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287C94-A714-446F-8234-F313509D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EBDE2-8ED6-4D4E-BF80-2562F3BA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D51E7-9E9E-41A3-AD2C-F1CC3DEE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1D99C-0BE0-4EEF-9F03-902BB6D3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0E495-5D2B-4C67-879F-AE5C06F5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207FC2-F3C5-4E64-AF9C-8C1E9C11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94443E-EE7F-489F-AD62-8873158FB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726A2F-508F-49DB-84E0-5158CDF5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D34-7D13-4851-A585-2606297A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43533-296E-4288-9BB9-601D5AC2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227F4-1FAB-4821-A1F0-46A6F1044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C5198-B376-46D7-A662-16BDB7D7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7C3BF-D190-4668-9105-670C4F90D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C1FEC9-A770-4529-91B6-838CD1A7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839B7-DA3A-4D5D-A7D5-DBD3AB17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D8B0AE-2032-4EC0-BA85-14E84F2D4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D31F7-ECF7-4A3A-8485-72DE0427F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786312-1F23-46B0-910B-FBABF496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B5E805-CC2F-4B4E-9CC5-52B6C97DF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5A75-0D8D-4BBE-B303-AF0BFF76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D3BD7E-895E-47D4-B435-87EB31815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3EAD25-DACA-4DAE-9956-7C01D09C5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8EAD8-38BA-49FE-A18D-85AC1248B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B68EF-33EC-4B36-A3A0-F488F0271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DE164B-F9FD-48C3-B9B7-72ECC808B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9AC4F-5ED7-4C68-9AC0-D08F8D2E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915004-64FB-4259-BE0F-9CBE47E9E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3170C9-46A0-4DA3-9598-C7419218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C45AC2-DAF8-4682-BD99-45E6D61F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1C3CF5-9355-4826-9BB6-A21F0285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98B4-527F-4E50-A5E4-47CCE651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C005F-3F83-4D68-8173-6605F0CF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825F7E-6407-4652-B58F-9D96E7A2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E8A6CE-6C05-4182-9843-8432C2F28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1DB55-35DA-4EFE-BCAB-B08A3DE5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5EAC50-70BE-4333-BF78-48627FCF6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FF081-8D0B-4EF3-ABC4-6D3ECC371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EA4DC-FFB8-419A-A523-2F566AE64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1B1ED7-0503-479A-8333-533AE5B39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10DD21-7939-4A4D-872C-4E69F3923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A7CF7-CA8E-4266-AD0E-77DAF399D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9220-4C59-48C0-B06B-95704BEAD19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8FB8-F462-4E97-A2C3-D48B785E0109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4E22D-B6D6-489E-9134-7DA45900469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7043-6DF8-48B7-AC3D-8B3F7EF351F6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7CF3-4877-45C7-930B-DFD6BD964810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B0EB8-1A69-45E7-BE4C-AC01B6BFE40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EE132-7127-4F79-9E0E-2615B1D8C3F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EAC5E-C78E-475C-A218-D7322D3051E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EAE8-C347-4C18-9186-B42E51F57AC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F9E3D-E912-482B-83B9-E4E728E7271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DDEA-B48D-4B92-88C2-A5710E8C8B9C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91C4-F13D-4ED4-98A7-F273FDDCBE9E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49068-2FC3-4F38-BC51-743835240D6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9F2C-306F-4AE8-B454-88BE9CF6822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5FEA-13A1-45F3-B2AD-8909AAADF8AF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2941-D42A-43FB-AE36-A6740A5BE9F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1189A-ED22-4265-B1A3-895760232AAC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D4A4-32EB-4E86-A4F8-08AB0DC62AB1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3B717-678E-40AF-8A46-190FE912EF19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D7FD7-8A38-47F9-B247-A684DD3D9AED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A49E-B1E2-4328-8257-30A60D67ECF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3754C-5D04-41F3-A4DF-A3BCE3731AD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60526-E916-46C8-B0D3-CE37A2BBDAC6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79DD-0733-4EC6-9547-EDB8E4F5E6A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E13C1-C7B8-4D50-97FD-7D89269D0F9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2BD8E-D4AE-4298-86E9-93B304E21606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421C-DDC6-49D0-895B-7E986E48DBE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ECB3-5EFF-453A-9CCD-51703B39FF4E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618D-1CD0-41FA-970B-11B35EED41B7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E09F5-BD35-4AA5-8EA2-1421E14B9423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64944-A453-4C1A-86E0-D85744423958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dt" idx="11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ftr" idx="11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5"/>
          <p:cNvSpPr>
            <a:spLocks noGrp="1"/>
          </p:cNvSpPr>
          <p:nvPr>
            <p:ph type="sldNum" idx="11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E77AE-B0A6-48ED-89FB-9F5C72873EF1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 type="dt" idx="11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 type="ftr" idx="11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5"/>
          <p:cNvSpPr>
            <a:spLocks noGrp="1"/>
          </p:cNvSpPr>
          <p:nvPr>
            <p:ph type="sldNum" idx="11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5E6A3-254A-47DD-BBA7-6E281B51C144}" type="slidenum">
              <a:rPr b="0" lang="es-CO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EC708-C053-4207-8A46-C73868CDC1F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 type="dt" idx="118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 type="ftr" idx="11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5"/>
          <p:cNvSpPr>
            <a:spLocks noGrp="1"/>
          </p:cNvSpPr>
          <p:nvPr>
            <p:ph type="sldNum" idx="120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119EC-B348-475D-8EC9-8038AA4978CF}" type="slidenum">
              <a:rPr b="0" lang="es-CO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2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2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2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0EB6C-E655-4FDB-A130-05C5B864987A}" type="slidenum">
              <a:rPr b="0" lang="es-CO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 type="dt" idx="12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 type="ftr" idx="12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 type="sldNum" idx="12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8D38-7CF2-435C-B4FD-D69DD6373369}" type="slidenum">
              <a:rPr b="0" lang="es-CO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 type="dt" idx="127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 type="ftr" idx="12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 type="sldNum" idx="129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48A7-EB3C-4070-9A5A-E5BAF51EAF50}" type="slidenum">
              <a:rPr b="0" lang="es-CO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5" name="PlaceHolder 3"/>
          <p:cNvSpPr>
            <a:spLocks noGrp="1"/>
          </p:cNvSpPr>
          <p:nvPr>
            <p:ph type="dt" idx="130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PlaceHolder 4"/>
          <p:cNvSpPr>
            <a:spLocks noGrp="1"/>
          </p:cNvSpPr>
          <p:nvPr>
            <p:ph type="ftr" idx="13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5"/>
          <p:cNvSpPr>
            <a:spLocks noGrp="1"/>
          </p:cNvSpPr>
          <p:nvPr>
            <p:ph type="sldNum" idx="132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49EE3-86E5-4C0C-81FA-39CF4915793C}" type="slidenum">
              <a:rPr b="0" lang="es-CO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 type="dt" idx="13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PlaceHolder 4"/>
          <p:cNvSpPr>
            <a:spLocks noGrp="1"/>
          </p:cNvSpPr>
          <p:nvPr>
            <p:ph type="ftr" idx="13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5"/>
          <p:cNvSpPr>
            <a:spLocks noGrp="1"/>
          </p:cNvSpPr>
          <p:nvPr>
            <p:ph type="sldNum" idx="13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26228-2639-454E-B086-D436BE587FB4}" type="slidenum">
              <a:rPr b="0" lang="es-CO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 type="dt" idx="13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 type="ftr" idx="13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5"/>
          <p:cNvSpPr>
            <a:spLocks noGrp="1"/>
          </p:cNvSpPr>
          <p:nvPr>
            <p:ph type="sldNum" idx="13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4E47-DF91-4BF3-B37B-C49B81A02AF4}" type="slidenum">
              <a:rPr b="0" lang="es-CO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8" name="PlaceHolder 3"/>
          <p:cNvSpPr>
            <a:spLocks noGrp="1"/>
          </p:cNvSpPr>
          <p:nvPr>
            <p:ph type="dt" idx="13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4"/>
          <p:cNvSpPr>
            <a:spLocks noGrp="1"/>
          </p:cNvSpPr>
          <p:nvPr>
            <p:ph type="ftr" idx="14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5"/>
          <p:cNvSpPr>
            <a:spLocks noGrp="1"/>
          </p:cNvSpPr>
          <p:nvPr>
            <p:ph type="sldNum" idx="14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4728-4C51-4652-A042-5CC46535BD32}" type="slidenum">
              <a:rPr b="0" lang="es-CO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PlaceHolder 3"/>
          <p:cNvSpPr>
            <a:spLocks noGrp="1"/>
          </p:cNvSpPr>
          <p:nvPr>
            <p:ph type="dt" idx="14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4"/>
          <p:cNvSpPr>
            <a:spLocks noGrp="1"/>
          </p:cNvSpPr>
          <p:nvPr>
            <p:ph type="ftr" idx="14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5"/>
          <p:cNvSpPr>
            <a:spLocks noGrp="1"/>
          </p:cNvSpPr>
          <p:nvPr>
            <p:ph type="sldNum" idx="14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79D4-D942-49B8-9A7F-955C7E1CF01D}" type="slidenum">
              <a:rPr b="0" lang="es-CO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 type="dt" idx="14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 type="ftr" idx="14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 type="sldNum" idx="14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07C7-D8F3-49B3-8B46-6FEAEC3973A3}" type="slidenum">
              <a:rPr b="0" lang="es-CO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4FEB9-0EE2-417A-8744-D6C65C8B68F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5868-2E08-48E2-A6B5-09BE1ED6535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754CB-075A-4E07-80D2-C1C25568D08B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8605-E811-4BDC-B47A-D40186B6B8C4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F35B-F805-4DD6-A48F-7563A8F7436A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0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0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0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0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0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0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CuadroTexto 5"/>
          <p:cNvSpPr/>
          <p:nvPr/>
        </p:nvSpPr>
        <p:spPr>
          <a:xfrm>
            <a:off x="685800" y="266220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  <a:ea typeface="Arial"/>
              </a:rPr>
              <a:t>VAR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10515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MIGRACIÓN INVENTARIOS PAIWEB 2.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7" name=""/>
          <p:cNvSpPr txBox="1"/>
          <p:nvPr/>
        </p:nvSpPr>
        <p:spPr>
          <a:xfrm>
            <a:off x="838080" y="745920"/>
            <a:ext cx="10515600" cy="48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vío de informacion 18 de junio. Diligenciamiento del formato de asignación de usuario responsables de migr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Ya debe contar con usuarios creado en paiweb 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be disponer de tiempo para los días 26 y 27 de junio, días en los que se llevará a cabo el proceso de migr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ebe conocer el proceso de migració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Herramientas para el proceso de Migración PAIWEB V1 - V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Asignación de padrinos en migración de inventari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Datos del usuario responsable del ingreso del inventario en PAIWEB 2.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icha técnica requerimientos mínimos de los equipos de compu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rmato de actualización de inventario para traslado a PAIWEB 2.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asos para ingreso de inventario de biológicos e insumos en el sistema de informacion  PAIWEB V1 - V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Video de socialización procedimiento para ingreso de inventario de biológicos e insum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838080" y="277920"/>
            <a:ext cx="10515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MIGRACIÓN INVENTARIOS PAIWEB 2.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39" name="Imagen 11" descr=""/>
          <p:cNvPicPr/>
          <p:nvPr/>
        </p:nvPicPr>
        <p:blipFill>
          <a:blip r:embed="rId2"/>
          <a:stretch/>
        </p:blipFill>
        <p:spPr>
          <a:xfrm>
            <a:off x="2527200" y="1036800"/>
            <a:ext cx="8067600" cy="53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838080" y="277920"/>
            <a:ext cx="10515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MIGRACIÓN INVENTARIOS PAIWEB 2.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2041" name="Imagen 5" descr=""/>
          <p:cNvPicPr/>
          <p:nvPr/>
        </p:nvPicPr>
        <p:blipFill>
          <a:blip r:embed="rId2"/>
          <a:stretch/>
        </p:blipFill>
        <p:spPr>
          <a:xfrm>
            <a:off x="2571840" y="1547640"/>
            <a:ext cx="8226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COMPETENCIAS LABORALES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3" name=""/>
          <p:cNvSpPr txBox="1"/>
          <p:nvPr/>
        </p:nvSpPr>
        <p:spPr>
          <a:xfrm>
            <a:off x="838080" y="1295280"/>
            <a:ext cx="10515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nvío de informacion el 20 de junio, Requisitos para certificación en administración de inmunobiologico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6 meses de experiencia en el programa de vacunacion o realizando acciones de apoyo en el programa (debe ir relacionada esta actividad en el certificado laboral).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tocopia de la cedul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ertificado laboral. (debe tener el membrete de la institució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Formato de términos y condiciones (debe tener la firma digit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Cada uno de los requisitos en formato en PDF de manera individual (pdf carta laboral, pdf cédula y formato de términos y condiciones con firma digita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Plazo de envío  lunes 28 de junio, con el objetivo de consolidar y enviar al SEN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PROPUESTA ESTRATEGIA CAMPAÑA SR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45" name=""/>
          <p:cNvSpPr txBox="1"/>
          <p:nvPr/>
        </p:nvSpPr>
        <p:spPr>
          <a:xfrm>
            <a:off x="838080" y="1295280"/>
            <a:ext cx="105156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Jornadas departamentales de vacunacion mes de juli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0 de Ju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7 de Ju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0000"/>
                </a:solidFill>
                <a:uFillTx/>
                <a:latin typeface="Calibri"/>
              </a:rPr>
              <a:t>Propuesta de Intervención Comunita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Tomas masivas sectores priorizados del Municipio de Perei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6 de Juli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9 de Juli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3 de Ju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alibri"/>
              </a:rPr>
              <a:t>15 de Juli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6" name="Diagrama 2" descr=""/>
          <p:cNvPicPr/>
          <p:nvPr/>
        </p:nvPicPr>
        <p:blipFill>
          <a:blip r:embed="rId2"/>
          <a:stretch/>
        </p:blipFill>
        <p:spPr>
          <a:xfrm>
            <a:off x="6900840" y="2494080"/>
            <a:ext cx="48942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9" name="Imagen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010" name="CuadroTexto 5"/>
          <p:cNvSpPr/>
          <p:nvPr/>
        </p:nvSpPr>
        <p:spPr>
          <a:xfrm>
            <a:off x="527040" y="1001880"/>
            <a:ext cx="653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3200" spc="-1" strike="noStrike">
                <a:solidFill>
                  <a:srgbClr val="e20e18"/>
                </a:solidFill>
                <a:latin typeface="Calibri"/>
                <a:ea typeface="Times New Roman"/>
              </a:rPr>
              <a:t>SECRETARIA DE SALUD PUBLICA Y SEGURIDAD SOCIAL DE PEREI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CuadroTexto 10"/>
          <p:cNvSpPr/>
          <p:nvPr/>
        </p:nvSpPr>
        <p:spPr>
          <a:xfrm>
            <a:off x="1285920" y="3540240"/>
            <a:ext cx="501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400" spc="-1" strike="noStrike">
                <a:solidFill>
                  <a:srgbClr val="767171"/>
                </a:solidFill>
                <a:latin typeface="Calibri"/>
                <a:ea typeface="Arial"/>
              </a:rPr>
              <a:t>PROGRAMA AMPLIADO DE INMUNIZ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2" name="Imagen 12" descr=""/>
          <p:cNvPicPr/>
          <p:nvPr/>
        </p:nvPicPr>
        <p:blipFill>
          <a:blip r:embed="rId2"/>
          <a:stretch/>
        </p:blipFill>
        <p:spPr>
          <a:xfrm>
            <a:off x="987480" y="3005280"/>
            <a:ext cx="1771560" cy="180720"/>
          </a:xfrm>
          <a:prstGeom prst="rect">
            <a:avLst/>
          </a:prstGeom>
          <a:ln w="0">
            <a:noFill/>
          </a:ln>
        </p:spPr>
      </p:pic>
      <p:sp>
        <p:nvSpPr>
          <p:cNvPr id="2013" name="CuadroTexto 10"/>
          <p:cNvSpPr/>
          <p:nvPr/>
        </p:nvSpPr>
        <p:spPr>
          <a:xfrm>
            <a:off x="1285920" y="4621320"/>
            <a:ext cx="501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400" spc="-1" strike="noStrike">
                <a:solidFill>
                  <a:srgbClr val="767171"/>
                </a:solidFill>
                <a:latin typeface="Calibri"/>
                <a:ea typeface="Arial"/>
              </a:rPr>
              <a:t>SEGUNDO COMITÉ DE VACUN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4" name="Imagen 6" descr="C:\Users\jcorral\Downloads\Lola y sus vacunas-01.png"/>
          <p:cNvPicPr/>
          <p:nvPr/>
        </p:nvPicPr>
        <p:blipFill>
          <a:blip r:embed="rId3"/>
          <a:stretch/>
        </p:blipFill>
        <p:spPr>
          <a:xfrm>
            <a:off x="9136080" y="2351160"/>
            <a:ext cx="3056040" cy="21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EQUIPO DE TRABAJO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6" name=""/>
          <p:cNvSpPr txBox="1"/>
          <p:nvPr/>
        </p:nvSpPr>
        <p:spPr>
          <a:xfrm>
            <a:off x="838080" y="1674360"/>
            <a:ext cx="10515600" cy="372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Luisa Carolina Trejos Martinez – Líder Programa Ampliado de Inmuniza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María Antonia Marulanda Ramírez– Enfermera Vigilancia Epidemiológica, Red de Fri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Irma Yaneth Lema García – Enfermera Estrategia AIEPI, Salas ER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Alba Roció Posada Ramírez – Enfermera Campaña Sarampión y Rubéol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Estefanía Muñoz Castro – Enfermera de Asistencia Técnica PAI-AIEP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Paula Alejandra Villa Jaramillo – Enfermera Líder Plan de Vacunación  COVID-19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teven Ceballos  - Auxiliar de Apoyo Plan de Vacunación COVID-1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alibri"/>
              </a:rPr>
              <a:t>Sandra Milena Rodríguez Duque – Enfermera Apoyo Plan de Vacunación COVID-19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 algn="ctr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2018" name=""/>
          <p:cNvGraphicFramePr/>
          <p:nvPr/>
        </p:nvGraphicFramePr>
        <p:xfrm>
          <a:off x="838080" y="1825560"/>
          <a:ext cx="10515600" cy="3289320"/>
        </p:xfrm>
        <a:graphic>
          <a:graphicData uri="http://schemas.openxmlformats.org/drawingml/2006/table">
            <a:tbl>
              <a:tblPr/>
              <a:tblGrid>
                <a:gridCol w="5781960"/>
                <a:gridCol w="4733640"/>
              </a:tblGrid>
              <a:tr h="404640">
                <a:tc>
                  <a:txBody>
                    <a:bodyPr lIns="90000" rIns="90000" tIns="49680" bIns="496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90000" rIns="90000" tIns="49680" bIns="496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SPONSAB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404640">
                <a:tc>
                  <a:txBody>
                    <a:bodyPr lIns="90000" rIns="90000" tIns="49680" bIns="496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itos PAI-AIEPI Resolución 3280-20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9680" bIns="496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stefany Muñoz Cas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43880">
                <a:tc>
                  <a:txBody>
                    <a:bodyPr lIns="90000" rIns="90000" tIns="49680" bIns="496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as ERA e Indicadores de Segu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9680" bIns="496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rma Yaneth Lema Garcí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4640">
                <a:tc>
                  <a:txBody>
                    <a:bodyPr lIns="90000" rIns="90000" tIns="49680" bIns="496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n Municipal de Vacunación COVID-19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9680" bIns="496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ula Alejandra Villa Jaramill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18680">
                <a:tc>
                  <a:txBody>
                    <a:bodyPr lIns="90000" rIns="90000" tIns="49680" bIns="496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berturas en Vacun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9680" bIns="496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a Carolina Trejos Martin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4640">
                <a:tc>
                  <a:txBody>
                    <a:bodyPr lIns="90000" rIns="90000" tIns="49680" bIns="496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vance Campaña Sarampión y Rubéo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9680" bIns="496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lba Rocío Posada Ramír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404640">
                <a:tc>
                  <a:txBody>
                    <a:bodyPr lIns="90000" rIns="90000" tIns="49680" bIns="496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gilancia Epidemiológ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90000" rIns="90000" tIns="49680" bIns="496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ría Antonia Marulanda Ramír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404640">
                <a:tc>
                  <a:txBody>
                    <a:bodyPr lIns="90000" rIns="90000" tIns="49680" bIns="496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ari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90000" rIns="90000" tIns="49680" bIns="4968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uisa Carolina Trejos Martinez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CuadroTexto 5"/>
          <p:cNvSpPr/>
          <p:nvPr/>
        </p:nvSpPr>
        <p:spPr>
          <a:xfrm>
            <a:off x="466560" y="2571840"/>
            <a:ext cx="71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Calibri"/>
                <a:ea typeface="Arial"/>
              </a:rPr>
              <a:t>COBERTURAS DE VACUNA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0" name="Imagen 2" descr=""/>
          <p:cNvPicPr/>
          <p:nvPr/>
        </p:nvPicPr>
        <p:blipFill>
          <a:blip r:embed="rId2"/>
          <a:stretch/>
        </p:blipFill>
        <p:spPr>
          <a:xfrm>
            <a:off x="0" y="1030320"/>
            <a:ext cx="826920" cy="1630440"/>
          </a:xfrm>
          <a:prstGeom prst="rect">
            <a:avLst/>
          </a:prstGeom>
          <a:ln w="0">
            <a:noFill/>
          </a:ln>
        </p:spPr>
      </p:pic>
      <p:sp>
        <p:nvSpPr>
          <p:cNvPr id="2021" name="CuadroTexto 6"/>
          <p:cNvSpPr/>
          <p:nvPr/>
        </p:nvSpPr>
        <p:spPr>
          <a:xfrm>
            <a:off x="1029240" y="1030320"/>
            <a:ext cx="63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  <a:ea typeface="Arial"/>
              </a:rPr>
              <a:t>META PROGRAMATICA PAI 20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2" name=""/>
          <p:cNvGraphicFramePr/>
          <p:nvPr/>
        </p:nvGraphicFramePr>
        <p:xfrm>
          <a:off x="1674720" y="1949400"/>
          <a:ext cx="8298000" cy="2021040"/>
        </p:xfrm>
        <a:graphic>
          <a:graphicData uri="http://schemas.openxmlformats.org/drawingml/2006/table">
            <a:tbl>
              <a:tblPr/>
              <a:tblGrid>
                <a:gridCol w="2090880"/>
                <a:gridCol w="2365200"/>
                <a:gridCol w="2084400"/>
                <a:gridCol w="1757520"/>
              </a:tblGrid>
              <a:tr h="101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UEN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BLACION &lt; 1 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A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10098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a Programática Ministe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3" name="Imagen 2" descr=""/>
          <p:cNvPicPr/>
          <p:nvPr/>
        </p:nvPicPr>
        <p:blipFill>
          <a:blip r:embed="rId2"/>
          <a:stretch/>
        </p:blipFill>
        <p:spPr>
          <a:xfrm>
            <a:off x="0" y="1030320"/>
            <a:ext cx="826920" cy="1630440"/>
          </a:xfrm>
          <a:prstGeom prst="rect">
            <a:avLst/>
          </a:prstGeom>
          <a:ln w="0">
            <a:noFill/>
          </a:ln>
        </p:spPr>
      </p:pic>
      <p:sp>
        <p:nvSpPr>
          <p:cNvPr id="2024" name="CuadroTexto 6"/>
          <p:cNvSpPr/>
          <p:nvPr/>
        </p:nvSpPr>
        <p:spPr>
          <a:xfrm>
            <a:off x="1060200" y="1030320"/>
            <a:ext cx="102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  <a:ea typeface="Arial"/>
              </a:rPr>
              <a:t>COBERTURAS BIOLOGICOS TRAZADORES MAYO 20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5" name=""/>
          <p:cNvGraphicFramePr/>
          <p:nvPr/>
        </p:nvGraphicFramePr>
        <p:xfrm>
          <a:off x="1841400" y="1898640"/>
          <a:ext cx="8615520" cy="3716280"/>
        </p:xfrm>
        <a:graphic>
          <a:graphicData uri="http://schemas.openxmlformats.org/drawingml/2006/table">
            <a:tbl>
              <a:tblPr/>
              <a:tblGrid>
                <a:gridCol w="2170080"/>
                <a:gridCol w="2457720"/>
                <a:gridCol w="2163600"/>
                <a:gridCol w="1824120"/>
              </a:tblGrid>
              <a:tr h="870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LOGI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BLACION &lt; 1 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OSIS APLIC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COBERTUR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1107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rcera dosis de Pentavalente en población menor de 1 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,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870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is única de Triple Viral en población de 1 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8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9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8690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is de refuerzo de Triple Viral en población de 5 añ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6" name="Imagen 2" descr=""/>
          <p:cNvPicPr/>
          <p:nvPr/>
        </p:nvPicPr>
        <p:blipFill>
          <a:blip r:embed="rId2"/>
          <a:stretch/>
        </p:blipFill>
        <p:spPr>
          <a:xfrm>
            <a:off x="0" y="1030320"/>
            <a:ext cx="826920" cy="1630440"/>
          </a:xfrm>
          <a:prstGeom prst="rect">
            <a:avLst/>
          </a:prstGeom>
          <a:ln w="0">
            <a:noFill/>
          </a:ln>
        </p:spPr>
      </p:pic>
      <p:sp>
        <p:nvSpPr>
          <p:cNvPr id="2027" name="CuadroTexto 6"/>
          <p:cNvSpPr/>
          <p:nvPr/>
        </p:nvSpPr>
        <p:spPr>
          <a:xfrm>
            <a:off x="959760" y="384120"/>
            <a:ext cx="712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  <a:ea typeface="Arial"/>
              </a:rPr>
              <a:t>COBERTURAS POR EAPB MAYO 20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"/>
          <p:cNvSpPr txBox="1"/>
          <p:nvPr/>
        </p:nvSpPr>
        <p:spPr>
          <a:xfrm>
            <a:off x="1248840" y="5817960"/>
            <a:ext cx="10106280" cy="42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Fuente: Informe Mensual de Vacunación, Mayo 20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29" name=""/>
          <p:cNvGraphicFramePr/>
          <p:nvPr/>
        </p:nvGraphicFramePr>
        <p:xfrm>
          <a:off x="2508120" y="1030320"/>
          <a:ext cx="8734680" cy="4584600"/>
        </p:xfrm>
        <a:graphic>
          <a:graphicData uri="http://schemas.openxmlformats.org/drawingml/2006/table">
            <a:tbl>
              <a:tblPr/>
              <a:tblGrid>
                <a:gridCol w="1095480"/>
                <a:gridCol w="959040"/>
                <a:gridCol w="820440"/>
                <a:gridCol w="820800"/>
                <a:gridCol w="876240"/>
                <a:gridCol w="822600"/>
                <a:gridCol w="820440"/>
                <a:gridCol w="876600"/>
                <a:gridCol w="822240"/>
                <a:gridCol w="820800"/>
              </a:tblGrid>
              <a:tr h="833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nicip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blaciòn Menor de 1 año (Meta Programatic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A MENOR DE UN AÑO 3ra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C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3ras. Dosis de Pentavalent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blaciòn de 1 año Meta Programátic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RP (T.V.) DE UN AÑO</a:t>
                      </a:r>
                      <a:br>
                        <a:rPr sz="1000"/>
                      </a:b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Unic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de Triple Viral al Año de edad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b. 5 años  (Meta Programatica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V</a:t>
                      </a:r>
                      <a:br>
                        <a:rPr sz="1000"/>
                      </a:b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do Ref. 5 Añ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 TV</a:t>
                      </a:r>
                      <a:br>
                        <a:rPr sz="1000"/>
                      </a:br>
                      <a:r>
                        <a:rPr b="1" lang="pt-BR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do Ref. 5 Añ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208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ud 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209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m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207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8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208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me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208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a EP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209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sanit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9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208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207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tros subsi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09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met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8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208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mas SU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208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jao 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,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207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sal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8,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  <a:tr h="2095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misan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08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080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tall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07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mite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0988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tros contri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0772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ncul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cd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4d79b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87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cc0da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1,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db4e2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030" name=""/>
          <p:cNvGraphicFramePr/>
          <p:nvPr/>
        </p:nvGraphicFramePr>
        <p:xfrm>
          <a:off x="372960" y="2863800"/>
          <a:ext cx="1752840" cy="1600200"/>
        </p:xfrm>
        <a:graphic>
          <a:graphicData uri="http://schemas.openxmlformats.org/drawingml/2006/table">
            <a:tbl>
              <a:tblPr/>
              <a:tblGrid>
                <a:gridCol w="1752840"/>
              </a:tblGrid>
              <a:tr h="228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NTAVALEN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25,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8ea9db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,75% -24,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339933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,50% - 23,74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,00% - 22,4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50% - 19,9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99cc"/>
                    </a:solidFill>
                  </a:tcPr>
                </a:tc>
              </a:tr>
              <a:tr h="2286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s-CO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1%  - &lt;= 12,49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1" name="Imagen 2" descr=""/>
          <p:cNvPicPr/>
          <p:nvPr/>
        </p:nvPicPr>
        <p:blipFill>
          <a:blip r:embed="rId2"/>
          <a:stretch/>
        </p:blipFill>
        <p:spPr>
          <a:xfrm>
            <a:off x="0" y="1030320"/>
            <a:ext cx="826920" cy="1630440"/>
          </a:xfrm>
          <a:prstGeom prst="rect">
            <a:avLst/>
          </a:prstGeom>
          <a:ln w="0">
            <a:noFill/>
          </a:ln>
        </p:spPr>
      </p:pic>
      <p:sp>
        <p:nvSpPr>
          <p:cNvPr id="2032" name="CuadroTexto 6"/>
          <p:cNvSpPr/>
          <p:nvPr/>
        </p:nvSpPr>
        <p:spPr>
          <a:xfrm>
            <a:off x="840600" y="246240"/>
            <a:ext cx="107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0000"/>
                </a:solidFill>
                <a:latin typeface="Calibri"/>
                <a:ea typeface="Arial"/>
              </a:rPr>
              <a:t>DOSIS APLICADAS SARAMPIÓN Y RUBÉOLA MAYO 20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3" name=""/>
          <p:cNvGraphicFramePr/>
          <p:nvPr/>
        </p:nvGraphicFramePr>
        <p:xfrm>
          <a:off x="3567240" y="1030320"/>
          <a:ext cx="4379760" cy="5113440"/>
        </p:xfrm>
        <a:graphic>
          <a:graphicData uri="http://schemas.openxmlformats.org/drawingml/2006/table">
            <a:tbl>
              <a:tblPr/>
              <a:tblGrid>
                <a:gridCol w="2384280"/>
                <a:gridCol w="1995480"/>
              </a:tblGrid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M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DOS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alud Tot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m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1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mev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9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6856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ueva EP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696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sani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u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3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os Contributiv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smet Sal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7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idmas Su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ijao Salud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osalu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Subsidi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BRE NO ASEGU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li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jerci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smitet Magiste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  <a:tr h="27000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tras Espe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O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34" name=""/>
          <p:cNvSpPr txBox="1"/>
          <p:nvPr/>
        </p:nvSpPr>
        <p:spPr>
          <a:xfrm>
            <a:off x="1042920" y="6281640"/>
            <a:ext cx="10105920" cy="4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Fuente: Informe Mensual de Vacunación, Mayo 202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8-01T22:10:19Z</dcterms:created>
  <dc:creator>Juan Pablo González Cañas</dc:creator>
  <dc:description/>
  <dc:language>en-US</dc:language>
  <cp:lastModifiedBy>Luisa</cp:lastModifiedBy>
  <dcterms:modified xsi:type="dcterms:W3CDTF">2021-06-24T16:03:20Z</dcterms:modified>
  <cp:revision>74</cp:revision>
  <dc:subject/>
  <dc:title>Presentación d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67737</vt:lpwstr>
  </property>
  <property fmtid="{D5CDD505-2E9C-101B-9397-08002B2CF9AE}" pid="3" name="NXPowerLiteSettings">
    <vt:lpwstr>C7000400038000</vt:lpwstr>
  </property>
  <property fmtid="{D5CDD505-2E9C-101B-9397-08002B2CF9AE}" pid="4" name="NXPowerLiteVersion">
    <vt:lpwstr>S9.0.1</vt:lpwstr>
  </property>
</Properties>
</file>